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8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B993F-F424-4B1A-8D6E-DB6EB56DB8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1A972-9C27-414A-897D-9774A7AE32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D79FC-5D07-4AC8-90B5-58F480871A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906165-DB4A-4AA6-824C-A4D04A2B72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одить примеры тел и веществ, твердых тел, жидкостей и газов, действий энер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ПС «Кирилл и Мефодий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числять особенности хвойных и цветковых растений; животных, гри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5928C-C931-4CB0-85DF-368AC95585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оду определять век, место события в прошл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те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активные плакаты, кар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7E6D5-7656-4ECC-8998-A046050EC5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1FA45-ADBF-4D64-8D01-B573E62211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</a:rPr>
              <a:t>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0051F-2BB4-45FD-B54B-CB0FF03A94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КТ для реализации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ржки из ФГОС второ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УМК Школа 2100 для реализации ФГ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я Лебедевой Л.А. для реализации ФГОС второго поколения с помощью современных образовательных технологий (ИК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материал и задания учебника, нацеленные на 1-ю линию 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51CC2D-DCD5-41C1-85B2-22409C7772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86593-994F-4551-A4D8-D3D0E44075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05EC6-AA42-4764-94A6-F96DAAD99A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95407-CB2A-4346-BE1A-64064CBF2B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724FB-7DDB-40E6-BB8D-96664FA3AB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иентироваться в своей системе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бирать источники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е энциклопед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бывать новые зн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батывать полученную информа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ртуальные экскур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разовывать информацию из одной формы в другу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мио-проек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16D60-042A-4140-96F0-6560AB2C59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77D70-07FA-4F16-8B34-66FA31FD16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9D0D8-D83C-42B8-8C72-E06B3D6A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F769-D327-4D43-9E43-21CDFD0E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E3C6-9071-4165-8155-0907ACE5C8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4A43C-D35C-48F8-9855-06F8A24ED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B6026-CC94-430B-9DD6-51FAC9D0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2212B-2627-491D-B0A1-98F8BB11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91DAFD-19DB-487F-93D1-4BF4A183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69C3B-D5FA-4A59-A5A4-E5D55B58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03084-B989-40B9-91CE-8DBBD3CB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ED6AD-6547-4235-A515-CDCA724B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F271-7EB1-43D9-960D-C4A854D0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E9B28-23B7-4758-930A-8912AE75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84566-85DA-4A14-91CE-D0B4986B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F556E-6BA7-4D7D-91FB-A3DA2C2A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42F13-6CEA-422B-BC32-57694C7D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2B073-86C2-4090-8832-DE5A1E4177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1C01-ACD7-4DED-B091-766C5F396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8752-6F22-4C3F-B79B-ADC1411C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ED5B-7961-4313-A873-05770A8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4B81-E1B0-43D0-BDAF-5755B296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640B-0E0E-4E33-8610-A5D4AEA5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FFE6-22CD-4F3E-B59E-9499DD48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D7CA-83C5-4551-980D-962FF813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7088-EB48-45B1-8D5B-E2BA151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2081-6459-4ABC-8B3B-63A855D3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B239-B3BA-4E0F-8F44-B2B36D0C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116C-5B72-47D8-8109-FC40A30B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7F0E-A8D9-42A9-8564-07F9F8FD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E83B-EF5B-42CD-9E54-A3B9347FD1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AD06D-B29B-429A-A1AC-B06B984DF5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BD27F-FD73-4ED3-B0A9-77EF39CD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0006F-7378-4E22-AFF5-B909FF53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6F3FA-55D9-4F8C-A677-A578A256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D52FB-8CE6-49CA-BDD0-BACFE3DA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EB8904-B246-4A8B-9A91-6F3984D7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B51DB1-D23D-46C1-B66B-727FC41D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492FC-E474-4BFC-8D65-87A5AC16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CC3C9-DF27-4D76-9844-D822F336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E699B-645B-49B3-887E-FA303DB6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22F48-5439-4AF6-BF16-F2789FE0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77B7B-F75B-4343-8CE2-900387F5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557A1-FEAC-4FBC-88D1-F990DDC398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F30F4-2C07-4F66-B649-FD5C96C7DA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5516-95A4-4682-8833-057B734B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6942A-18EC-498B-A35D-1B1CF395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4C9C73-8794-4CD3-9481-7DBD4BBA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E9CE8-FED4-4919-9A31-3B1E9644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CC8093-1DB8-419F-A197-F0885AC4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36C0C3-D782-4FEA-8124-46D2D781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8E44AA-994C-4383-9613-C638FA35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5A567E-9BC5-4CD5-A93D-F88C4C0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3BEB0-96D4-4B8F-870F-CCCFD98D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68915-0624-4C81-8CB2-536441BF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622128-FFE6-4845-9F6B-998F136E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5A0B-5C01-412B-88FD-11ACDDA5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08A67-4B7A-44CA-B9E4-24A6FF13F9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7E26A-0EE0-4AAD-B62E-2DDCFEA8FB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FFC40-22EA-47D1-887C-31D0FC54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B33D9-E256-4044-98F8-C09820A9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BD0B-D38A-4467-98AE-B20F129D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03008-0A20-4549-89B6-B3005635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61689-7E62-48D4-BDE8-86651BB7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351D7-C9B7-4CB6-9832-DFC00582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EA4C9-968E-451E-ACEA-5FCF96F7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4512C-E151-49A8-B875-40C9A61C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51CF-6DAA-4C56-9BC3-FFE5A811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FCA87-FB1C-4866-A3F8-3C584F64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0BB8A-1658-4318-9D74-E6A04B5B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5DE8-A49D-47A3-8631-60989C00EA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F62A3-3129-40D3-84C1-AD7967BF75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90530D-4CBC-4BF5-9E4C-47355ED5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3634C4-2B3B-4273-84C2-5ECB9C80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D52D03-3006-4FAC-B2BD-4D21FA3D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76DCF-D0DB-4EA6-8446-4BEF320F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484D8-AB5F-45D8-B38C-8123C7A2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0D6C9C-CFB7-4D6F-9CD6-EFEB3C20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67D30-93EB-41C3-B75A-58A43148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D35A1-4471-4351-BC78-778046A2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CDFD6-A7C7-447F-ADF6-04B09214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B7173-1D89-4333-8D6D-9B30CFB9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A431EF-F9A3-44C3-9DE5-53ECAD9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91F9B-8D95-44DA-B4D1-470C9A7B7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0888C-2EDE-42DB-A966-009AB1FE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CF17B-A75F-478A-9412-AD4E9422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36087C-2520-4FC1-A55A-763662E9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53E77C-5694-44DF-A0C4-C3ADE6C31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7D999-DB94-4AC6-B09E-24981F7A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1D474-CA4F-4135-9B0F-1CB5ED87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50E04-44FB-4D44-93C4-E97D30B7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0EB606-3A93-4062-9444-DBF0664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75C1D-1F1A-4FEF-A7AD-244056D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FA9A7-7ED1-4039-AA0C-42B4BBC7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BF033-211B-457F-AE7B-B8EAF4D6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8A328-3F05-448E-B01A-7D04BF58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E27908-FB3B-40FF-85A2-4F6D4917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06.1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228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A0BD0-0E78-4F7D-9114-6285EE0978E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7976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574C22-B490-401A-8EF9-298F5EFC3E3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5CF1AF-2993-40DB-905B-C84934AC301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120" y="21744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7976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8760"/>
            <a:ext cx="60624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86CF63-C87F-4958-859D-6FA61E3B9A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2E1CCC-4ECE-4855-9BB8-B0BF2BA25B6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A13995-32CB-4FB9-8829-9623B627748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200" spc="-1" strike="noStrike">
                <a:solidFill>
                  <a:srgbClr val="575f6d"/>
                </a:solidFill>
                <a:latin typeface="Century Schoolbook"/>
              </a:rPr>
              <a:t>06.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EB92E2-B82A-4C3D-8124-AA32B030B52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5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06.1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1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3ADD173-CE40-4283-B1A6-982D62F49A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2" name="Text Box 1"/>
          <p:cNvSpPr/>
          <p:nvPr/>
        </p:nvSpPr>
        <p:spPr>
          <a:xfrm>
            <a:off x="1357200" y="3071880"/>
            <a:ext cx="6500880" cy="15001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1000080" y="2858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У «Средняя общеобразовательная школа № 619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город Санкт-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071800" y="51436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Лебедева Любовь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2"/>
          <a:stretch/>
        </p:blipFill>
        <p:spPr>
          <a:xfrm>
            <a:off x="214200" y="142920"/>
            <a:ext cx="1857600" cy="18572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357200" y="2286000"/>
            <a:ext cx="6858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ТЕМА: МЕТОДИКА ИСПОЛЬЗОВАНИЯ ИКТ НА УРОКАХ ОКРУЖАЮЩЕГО МИР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786040" y="62866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1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1 Обитатели земл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D2831-8B29-47A8-AF55-04D67DFE361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1143000" y="1357200"/>
          <a:ext cx="6715080" cy="5072040"/>
        </p:xfrm>
        <a:graphic>
          <a:graphicData uri="http://schemas.openxmlformats.org/drawingml/2006/table">
            <a:tbl>
              <a:tblPr/>
              <a:tblGrid>
                <a:gridCol w="3357720"/>
                <a:gridCol w="3357360"/>
              </a:tblGrid>
              <a:tr h="267336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риводить примеры тел и веществ, твердых тел, жидкостей и газов, действий энерг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ПС «Кирилл и Мефоди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23986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еречислять особенности хвойных и цветковых растений; животных, гриб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74" name="Picture 8" descr=""/>
          <p:cNvPicPr/>
          <p:nvPr/>
        </p:nvPicPr>
        <p:blipFill>
          <a:blip r:embed="rId2"/>
          <a:stretch/>
        </p:blipFill>
        <p:spPr>
          <a:xfrm>
            <a:off x="4786200" y="2009880"/>
            <a:ext cx="2643480" cy="1979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9" descr=""/>
          <p:cNvPicPr/>
          <p:nvPr/>
        </p:nvPicPr>
        <p:blipFill>
          <a:blip r:embed="rId3"/>
          <a:stretch/>
        </p:blipFill>
        <p:spPr>
          <a:xfrm>
            <a:off x="4357800" y="4143240"/>
            <a:ext cx="1476360" cy="1714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"/>
          <p:cNvPicPr/>
          <p:nvPr/>
        </p:nvPicPr>
        <p:blipFill>
          <a:blip r:embed="rId4"/>
          <a:stretch/>
        </p:blipFill>
        <p:spPr>
          <a:xfrm>
            <a:off x="5786280" y="3835440"/>
            <a:ext cx="215748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78" name="Text Box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Часть 2 Моё Отечеств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47D70-9C03-4965-B305-1854EC0A045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1143000" y="1428840"/>
          <a:ext cx="6643800" cy="4930560"/>
        </p:xfrm>
        <a:graphic>
          <a:graphicData uri="http://schemas.openxmlformats.org/drawingml/2006/table">
            <a:tbl>
              <a:tblPr/>
              <a:tblGrid>
                <a:gridCol w="3322800"/>
                <a:gridCol w="3321000"/>
              </a:tblGrid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По году определять век, место события в прошло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тес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adeb">
                        <a:alpha val="70000"/>
                      </a:srgbClr>
                    </a:solidFill>
                  </a:tcPr>
                </a:tc>
              </a:tr>
              <a:tr h="2465280"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Отличать друг от друга времена Древней Руси, Московского государства, Российской империи, Советской России и СССР, современной Росс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16165d"/>
                          </a:solidFill>
                          <a:latin typeface="Century Schoolbook"/>
                        </a:rPr>
                        <a:t>Интерактивные плакаты, кар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481" name="Picture 8" descr=""/>
          <p:cNvPicPr/>
          <p:nvPr/>
        </p:nvPicPr>
        <p:blipFill>
          <a:blip r:embed="rId2"/>
          <a:stretch/>
        </p:blipFill>
        <p:spPr>
          <a:xfrm>
            <a:off x="4786200" y="4572000"/>
            <a:ext cx="2643480" cy="1797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"/>
          <p:cNvPicPr/>
          <p:nvPr/>
        </p:nvPicPr>
        <p:blipFill>
          <a:blip r:embed="rId3"/>
          <a:stretch/>
        </p:blipFill>
        <p:spPr>
          <a:xfrm>
            <a:off x="4857840" y="1785960"/>
            <a:ext cx="2643120" cy="2114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"/>
          <p:cNvPicPr/>
          <p:nvPr/>
        </p:nvPicPr>
        <p:blipFill>
          <a:blip r:embed="rId4"/>
          <a:stretch/>
        </p:blipFill>
        <p:spPr>
          <a:xfrm>
            <a:off x="2000160" y="2428920"/>
            <a:ext cx="17146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5" name="Text Box 1"/>
          <p:cNvSpPr/>
          <p:nvPr/>
        </p:nvSpPr>
        <p:spPr>
          <a:xfrm>
            <a:off x="1357200" y="1996920"/>
            <a:ext cx="746784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575f6d"/>
                </a:solidFill>
                <a:latin typeface="Century Schoolbook"/>
              </a:rPr>
              <a:t>СПАСИБО ЗА ВНИМАНИЕ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9F9D9-6854-4882-926A-5998B8FB66B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09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13814-985F-4E99-85DD-50147731456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2"/>
          <a:stretch/>
        </p:blipFill>
        <p:spPr>
          <a:xfrm>
            <a:off x="1071720" y="2714760"/>
            <a:ext cx="2261880" cy="17859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1357200" y="1500120"/>
            <a:ext cx="23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Arial"/>
              </a:rPr>
              <a:t>ИКТ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357720" y="2571840"/>
            <a:ext cx="785520" cy="2071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c99">
              <a:alpha val="81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6" descr=""/>
          <p:cNvPicPr/>
          <p:nvPr/>
        </p:nvPicPr>
        <p:blipFill>
          <a:blip r:embed="rId3"/>
          <a:stretch/>
        </p:blipFill>
        <p:spPr>
          <a:xfrm>
            <a:off x="4143240" y="2143080"/>
            <a:ext cx="3794400" cy="2786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7"/>
          <p:cNvSpPr/>
          <p:nvPr/>
        </p:nvSpPr>
        <p:spPr>
          <a:xfrm>
            <a:off x="4505400" y="3341520"/>
            <a:ext cx="181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6" name="Text Box 1"/>
          <p:cNvSpPr/>
          <p:nvPr/>
        </p:nvSpPr>
        <p:spPr>
          <a:xfrm>
            <a:off x="571680" y="214200"/>
            <a:ext cx="797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Использование ИКТ для реализации ФГОС второго покол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611CE-6229-4047-89F7-FDBC621B340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928800" y="1800360"/>
          <a:ext cx="7215120" cy="4440240"/>
        </p:xfrm>
        <a:graphic>
          <a:graphicData uri="http://schemas.openxmlformats.org/drawingml/2006/table">
            <a:tbl>
              <a:tblPr/>
              <a:tblGrid>
                <a:gridCol w="1700280"/>
                <a:gridCol w="2190600"/>
                <a:gridCol w="3324240"/>
              </a:tblGrid>
              <a:tr h="246672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держки из ФГОС второго покол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УМК Школа 2100 для реализации ФГО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дложения Лебедевой Л.А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я реализации ФГОС второго поколения с помощью современных образовательных технологий (ИК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7352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чебный материал и задания учебник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нацеленные на 1-ю линию развит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19" name="Picture 10" descr=""/>
          <p:cNvPicPr/>
          <p:nvPr/>
        </p:nvPicPr>
        <p:blipFill>
          <a:blip r:embed="rId2"/>
          <a:stretch/>
        </p:blipFill>
        <p:spPr>
          <a:xfrm>
            <a:off x="5786280" y="4929120"/>
            <a:ext cx="1482840" cy="11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1" name="Text Box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A884A-3667-4061-ACF3-E966E305158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1000080" y="357120"/>
            <a:ext cx="70722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метапредметные и предметные результаты освоения учебного предм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2"/>
          <a:stretch/>
        </p:blipFill>
        <p:spPr>
          <a:xfrm>
            <a:off x="1643040" y="1643040"/>
            <a:ext cx="5857920" cy="4705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5" name="Text Box 1"/>
          <p:cNvSpPr/>
          <p:nvPr/>
        </p:nvSpPr>
        <p:spPr>
          <a:xfrm>
            <a:off x="457200" y="274680"/>
            <a:ext cx="746748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Личнос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5F933-1455-44E2-8501-0B6367453E6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1357200" y="1214280"/>
            <a:ext cx="600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ять поступ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ть жизненные ситу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 определять и высказывать правила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выбор, какой поступок соверш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357200" y="3714840"/>
          <a:ext cx="6429600" cy="2647800"/>
        </p:xfrm>
        <a:graphic>
          <a:graphicData uri="http://schemas.openxmlformats.org/drawingml/2006/table">
            <a:tbl>
              <a:tblPr/>
              <a:tblGrid>
                <a:gridCol w="1857600"/>
                <a:gridCol w="2214360"/>
                <a:gridCol w="2357640"/>
              </a:tblGrid>
              <a:tr h="699840"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езентаци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wer Poi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фрагмен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9648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део из жизни клас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1947960"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36000" rIns="36000" tIns="81360" bIns="360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pic>
        <p:nvPicPr>
          <p:cNvPr id="429" name="Picture 8" descr=""/>
          <p:cNvPicPr/>
          <p:nvPr/>
        </p:nvPicPr>
        <p:blipFill>
          <a:blip r:embed="rId2"/>
          <a:stretch/>
        </p:blipFill>
        <p:spPr>
          <a:xfrm>
            <a:off x="1500120" y="45007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"/>
          <p:cNvPicPr/>
          <p:nvPr/>
        </p:nvPicPr>
        <p:blipFill>
          <a:blip r:embed="rId3"/>
          <a:stretch/>
        </p:blipFill>
        <p:spPr>
          <a:xfrm>
            <a:off x="3286080" y="4572000"/>
            <a:ext cx="1928880" cy="16160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"/>
          <p:cNvPicPr/>
          <p:nvPr/>
        </p:nvPicPr>
        <p:blipFill>
          <a:blip r:embed="rId4"/>
          <a:stretch/>
        </p:blipFill>
        <p:spPr>
          <a:xfrm>
            <a:off x="5500800" y="4572000"/>
            <a:ext cx="207000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33" name="Rectangle 1"/>
          <p:cNvSpPr/>
          <p:nvPr/>
        </p:nvSpPr>
        <p:spPr>
          <a:xfrm>
            <a:off x="4714920" y="2071800"/>
            <a:ext cx="385776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571680" y="2071800"/>
            <a:ext cx="385740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714240" y="285840"/>
            <a:ext cx="7467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Мета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0D454-242D-49B0-9CB9-5EFD20C6921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78588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Регулятив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4786200" y="207180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Познавательные УУ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7" descr=""/>
          <p:cNvPicPr/>
          <p:nvPr/>
        </p:nvPicPr>
        <p:blipFill>
          <a:blip r:embed="rId2"/>
          <a:stretch/>
        </p:blipFill>
        <p:spPr>
          <a:xfrm>
            <a:off x="2357280" y="3071880"/>
            <a:ext cx="4067280" cy="3286080"/>
          </a:xfrm>
          <a:prstGeom prst="rect">
            <a:avLst/>
          </a:prstGeom>
          <a:ln w="0">
            <a:noFill/>
          </a:ln>
        </p:spPr>
      </p:pic>
      <p:sp>
        <p:nvSpPr>
          <p:cNvPr id="440" name="AutoShape 8"/>
          <p:cNvSpPr/>
          <p:nvPr/>
        </p:nvSpPr>
        <p:spPr>
          <a:xfrm>
            <a:off x="114300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9"/>
          <p:cNvSpPr/>
          <p:nvPr/>
        </p:nvSpPr>
        <p:spPr>
          <a:xfrm>
            <a:off x="4429080" y="1428840"/>
            <a:ext cx="2925720" cy="51264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43" name="Text Box 1"/>
          <p:cNvSpPr/>
          <p:nvPr/>
        </p:nvSpPr>
        <p:spPr>
          <a:xfrm>
            <a:off x="2214720" y="428760"/>
            <a:ext cx="5257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entury Schoolbook"/>
              </a:rPr>
              <a:t>Регулятив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1071720" y="1357200"/>
            <a:ext cx="482904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 формулировать цели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ть план решения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Arial"/>
              <a:buChar char="•"/>
              <a:tabLst>
                <a:tab algn="l" pos="270000"/>
                <a:tab algn="l" pos="717480"/>
                <a:tab algn="l" pos="1166760"/>
                <a:tab algn="l" pos="1616040"/>
                <a:tab algn="l" pos="2065320"/>
                <a:tab algn="l" pos="2514600"/>
                <a:tab algn="l" pos="2963880"/>
                <a:tab algn="l" pos="3413160"/>
                <a:tab algn="l" pos="3862440"/>
                <a:tab algn="l" pos="4311720"/>
                <a:tab algn="l" pos="4761000"/>
                <a:tab algn="l" pos="5210280"/>
                <a:tab algn="l" pos="5659560"/>
                <a:tab algn="l" pos="6108840"/>
                <a:tab algn="l" pos="6558120"/>
                <a:tab algn="l" pos="7007400"/>
                <a:tab algn="l" pos="7456320"/>
                <a:tab algn="l" pos="7905600"/>
                <a:tab algn="l" pos="8354880"/>
                <a:tab algn="l" pos="8804160"/>
                <a:tab algn="l" pos="9253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по плану, сверять действия с цел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9FDB0-E4D6-43AA-B76E-3BDA5CC7688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5786280" y="2857680"/>
            <a:ext cx="2214720" cy="1979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500720" y="3786120"/>
            <a:ext cx="2822400" cy="203364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6"/>
          <p:cNvSpPr/>
          <p:nvPr/>
        </p:nvSpPr>
        <p:spPr>
          <a:xfrm>
            <a:off x="1428840" y="4429080"/>
            <a:ext cx="292896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4"/>
          <a:stretch/>
        </p:blipFill>
        <p:spPr>
          <a:xfrm>
            <a:off x="3143160" y="5000760"/>
            <a:ext cx="114948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1" name="Text Box 1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ознавательные УУ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7031F-2554-4A57-9D50-C3AF0803960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214280" y="857160"/>
          <a:ext cx="6715440" cy="5649840"/>
        </p:xfrm>
        <a:graphic>
          <a:graphicData uri="http://schemas.openxmlformats.org/drawingml/2006/table">
            <a:tbl>
              <a:tblPr/>
              <a:tblGrid>
                <a:gridCol w="2928960"/>
                <a:gridCol w="3786480"/>
              </a:tblGrid>
              <a:tr h="214308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иентироваться в своей системе зна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бирать источники инфор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Электронные энциклопед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2d2f4">
                        <a:alpha val="70000"/>
                      </a:srgbClr>
                    </a:solidFill>
                  </a:tcPr>
                </a:tc>
              </a:tr>
              <a:tr h="198612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ывать новые зн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рабатывать полученную информаци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иртуальные экскурс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d9ce">
                        <a:alpha val="70000"/>
                      </a:srgbClr>
                    </a:solidFill>
                  </a:tcPr>
                </a:tc>
              </a:tr>
              <a:tr h="1520640">
                <a:tc>
                  <a:txBody>
                    <a:bodyPr lIns="90000" rIns="90000" tIns="11052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образовывать информацию из одной формы в другу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6516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имио-проект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n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454" name="Picture 10" descr=""/>
          <p:cNvPicPr/>
          <p:nvPr/>
        </p:nvPicPr>
        <p:blipFill>
          <a:blip r:embed="rId2"/>
          <a:stretch/>
        </p:blipFill>
        <p:spPr>
          <a:xfrm>
            <a:off x="5286240" y="1285920"/>
            <a:ext cx="2000520" cy="1601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"/>
          <p:cNvPicPr/>
          <p:nvPr/>
        </p:nvPicPr>
        <p:blipFill>
          <a:blip r:embed="rId3"/>
          <a:stretch/>
        </p:blipFill>
        <p:spPr>
          <a:xfrm>
            <a:off x="5357880" y="3357720"/>
            <a:ext cx="1982880" cy="15858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2"/>
          <p:cNvSpPr/>
          <p:nvPr/>
        </p:nvSpPr>
        <p:spPr>
          <a:xfrm>
            <a:off x="5357880" y="5500800"/>
            <a:ext cx="192888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7c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лан уро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3" descr=""/>
          <p:cNvPicPr/>
          <p:nvPr/>
        </p:nvPicPr>
        <p:blipFill>
          <a:blip r:embed="rId4"/>
          <a:stretch/>
        </p:blipFill>
        <p:spPr>
          <a:xfrm>
            <a:off x="6072120" y="5857920"/>
            <a:ext cx="728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59" name="Rectangle 1"/>
          <p:cNvSpPr/>
          <p:nvPr/>
        </p:nvSpPr>
        <p:spPr>
          <a:xfrm>
            <a:off x="642960" y="2071800"/>
            <a:ext cx="357192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"/>
          <p:cNvSpPr/>
          <p:nvPr/>
        </p:nvSpPr>
        <p:spPr>
          <a:xfrm>
            <a:off x="4500720" y="2071800"/>
            <a:ext cx="3714480" cy="571320"/>
          </a:xfrm>
          <a:prstGeom prst="rect">
            <a:avLst/>
          </a:prstGeom>
          <a:solidFill>
            <a:srgbClr val="d9d9d9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16165d"/>
                </a:solidFill>
                <a:latin typeface="Century Schoolbook"/>
              </a:rPr>
              <a:t>Предметные результат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26404-1040-45D5-A17B-5B0A9DF2F38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57120" y="207180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Обитатели зем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4357800" y="20718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42557f"/>
                </a:solidFill>
                <a:latin typeface="Times New Roman"/>
                <a:ea typeface="Times New Roman"/>
              </a:rPr>
              <a:t>Моё Отеч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1143000" y="2928960"/>
            <a:ext cx="62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-я линия развития – уметь объяснять м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1214280" y="343296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-я линия развития – уметь определять своё отношение к ми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9"/>
          <p:cNvSpPr/>
          <p:nvPr/>
        </p:nvSpPr>
        <p:spPr>
          <a:xfrm>
            <a:off x="1357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0"/>
          <p:cNvSpPr/>
          <p:nvPr/>
        </p:nvSpPr>
        <p:spPr>
          <a:xfrm>
            <a:off x="4786200" y="1357200"/>
            <a:ext cx="2925720" cy="5130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acc0ed"/>
              </a:gs>
              <a:gs pos="100000">
                <a:srgbClr val="e4eafa"/>
              </a:gs>
            </a:gsLst>
            <a:lin ang="5400000"/>
          </a:gradFill>
          <a:ln w="10080">
            <a:solidFill>
              <a:srgbClr val="aebad5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11" descr=""/>
          <p:cNvPicPr/>
          <p:nvPr/>
        </p:nvPicPr>
        <p:blipFill>
          <a:blip r:embed="rId2"/>
          <a:stretch/>
        </p:blipFill>
        <p:spPr>
          <a:xfrm>
            <a:off x="2857680" y="4500720"/>
            <a:ext cx="2714400" cy="2171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1T16:54:24Z</dcterms:created>
  <dc:creator>Admin</dc:creator>
  <dc:description/>
  <dc:language>en-US</dc:language>
  <cp:lastModifiedBy>LEGION</cp:lastModifiedBy>
  <dcterms:modified xsi:type="dcterms:W3CDTF">2015-01-27T13:43:57Z</dcterms:modified>
  <cp:revision>82</cp:revision>
  <dc:subject/>
  <dc:title>В стране невыученных уроков</dc:title>
</cp:coreProperties>
</file>